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673-83B3-467B-914F-69A8690C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B82-7456-4F49-B63C-158CDE0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73E-67D7-4107-9735-A139E23A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190-7061-4DE0-A8DD-061BD21D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91C-131C-4AB1-92ED-AEA8F3D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80C-11DC-4CA9-ABB2-40216FBA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320-83A1-4DDB-B202-930563D8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D85-8D5C-4E07-B819-7A9D81C3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110-DDDE-4F04-AF9A-6FD0EFB6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E80-A971-4F42-8A14-671B865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987-67DE-4D06-82B9-CDCAA8BB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B56-4A9F-4E99-92AC-C1C4C46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9F8D-8F88-4F94-B5AD-C9C988DB9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eautyart.ucoz.ru/photo/boris_i_gleb_1942/2-0-39" TargetMode="External"/><Relationship Id="rId2" Type="http://schemas.openxmlformats.org/officeDocument/2006/relationships/hyperlink" Target="http://beautyart.ucoz.ru/photo/boris_i_gleb_1942/2-0-39" TargetMode="External"/><Relationship Id="rId3" Type="http://schemas.openxmlformats.org/officeDocument/2006/relationships/hyperlink" Target="http://beautyart.ucoz.ru/photo/boris_i_gleb_1942/2-0-39" TargetMode="External"/><Relationship Id="rId4" Type="http://schemas.openxmlformats.org/officeDocument/2006/relationships/hyperlink" Target="http://beautyart.ucoz.ru/photo/boris_i_gleb_1942/2-0-39" TargetMode="External"/><Relationship Id="rId5" Type="http://schemas.openxmlformats.org/officeDocument/2006/relationships/hyperlink" Target="http://beautyart.ucoz.ru/photo/boris_i_gleb_1942/2-0-39" TargetMode="External"/><Relationship Id="rId6" Type="http://schemas.openxmlformats.org/officeDocument/2006/relationships/hyperlink" Target="http://beautyart.ucoz.ru/photo/boris_i_gleb_1942/2-0-39" TargetMode="External"/><Relationship Id="rId7" Type="http://schemas.openxmlformats.org/officeDocument/2006/relationships/hyperlink" Target="http://www.2rybinsk.ru/wp-content/uploads/iverskya-church.jpg" TargetMode="External"/><Relationship Id="rId8" Type="http://schemas.openxmlformats.org/officeDocument/2006/relationships/hyperlink" Target="http://www.2rybinsk.ru/wp-content/uploads/iverskya-church.jpg" TargetMode="External"/><Relationship Id="rId9" Type="http://schemas.openxmlformats.org/officeDocument/2006/relationships/hyperlink" Target="http://www.2rybinsk.ru/wp-content/uploads/iverskya-church.jpg" TargetMode="External"/><Relationship Id="rId10" Type="http://schemas.openxmlformats.org/officeDocument/2006/relationships/hyperlink" Target="http://www.2rybinsk.ru/wp-content/uploads/iverskya-church.jpg" TargetMode="External"/><Relationship Id="rId11" Type="http://schemas.openxmlformats.org/officeDocument/2006/relationships/hyperlink" Target="http://www.2rybinsk.ru/wp-content/uploads/iverskya-church.jpg" TargetMode="External"/><Relationship Id="rId12" Type="http://schemas.openxmlformats.org/officeDocument/2006/relationships/hyperlink" Target="http://www.2rybinsk.ru/wp-content/uploads/iverskya-church.jpg" TargetMode="External"/><Relationship Id="rId13" Type="http://schemas.openxmlformats.org/officeDocument/2006/relationships/hyperlink" Target="http://www.2rybinsk.ru/wp-content/uploads/iverskya-church.jpg" TargetMode="External"/><Relationship Id="rId14" Type="http://schemas.openxmlformats.org/officeDocument/2006/relationships/hyperlink" Target="http://s02.yapfiles.ru/files/758272/yellow.png" TargetMode="External"/><Relationship Id="rId15" Type="http://schemas.openxmlformats.org/officeDocument/2006/relationships/hyperlink" Target="http://s02.yapfiles.ru/files/758272/yellow.png" TargetMode="External"/><Relationship Id="rId16" Type="http://schemas.openxmlformats.org/officeDocument/2006/relationships/hyperlink" Target="http://s02.yapfiles.ru/files/758272/yellow.png" TargetMode="External"/><Relationship Id="rId17" Type="http://schemas.openxmlformats.org/officeDocument/2006/relationships/hyperlink" Target="http://s02.yapfiles.ru/files/758272/yellow.png" TargetMode="External"/><Relationship Id="rId18" Type="http://schemas.openxmlformats.org/officeDocument/2006/relationships/hyperlink" Target="http://s02.yapfiles.ru/files/758272/yellow.png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4292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7"/>
                </a:solidFill>
                <a:latin typeface="CyrillicOld"/>
              </a:rPr>
              <a:t> </a:t>
            </a:r>
            <a:r>
              <a:rPr b="0" lang="en-US" sz="3600" spc="-1" strike="noStrike">
                <a:solidFill>
                  <a:srgbClr val="fffff7"/>
                </a:solidFill>
                <a:latin typeface="CyrillicOld"/>
              </a:rPr>
              <a:t>«... ЧТО Я В ЭТУ ЗЕМЛЮ ВЛЮБЛЁ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190800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1979640" y="6381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CyrillicOld"/>
              </a:rPr>
              <a:t>ИКОНА БОЖЬЕЙ МАТЕРИ «ТРОЕРУЧ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956120" cy="6264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8720" y="3860640"/>
            <a:ext cx="3635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В.ГОРЮ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Рыбинск. Тёплый день. 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897440" cy="6480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51640" y="42400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В.Горю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Рыбинск. Ос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59640" cy="6097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55840" y="6400800"/>
            <a:ext cx="60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В. ГОРЮНОВ. РЫБИНСК. МАРТОВСКИЙ Д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5983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08520" y="6353280"/>
            <a:ext cx="495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ВИКТОР ГОРЮНОВ. РЫБИНСК. ВОСКРЕ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beautyart.ucoz.ru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photo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6"/>
              </a:rPr>
              <a:t>/boris_i_gleb_1942/2-0-3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«Красота спасёт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8"/>
              </a:rPr>
              <a:t>://www.2rybinsk.ru/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9"/>
              </a:rPr>
              <a:t>wp-content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1"/>
              </a:rPr>
              <a:t>uploads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3"/>
              </a:rPr>
              <a:t>iverskya-church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зображение храма Иверской Божьей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5"/>
              </a:rPr>
              <a:t>://s02.yapfiles.ru/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6"/>
              </a:rPr>
              <a:t>files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7"/>
              </a:rPr>
              <a:t>/758272/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8"/>
              </a:rPr>
              <a:t>yellow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фон презентации «Жёлтое сия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ycicerone.ru/content/images/0/08/Ru_yaroslavl_spaso_preobr_monast_church_yar_4udotvorcev_sobor_4asovnja_08.jpg - Спасо-Преображенский собор в Рыбин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010.radikal.ru/1108/20/f8933d05894a.jpg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а Н.К.Рериха «Глеб и Бори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rtnow.ru/ru/gallery/3/4723/picture/0/687717.html?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Nov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ы Виктора Горюнов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1692360" y="6021360"/>
            <a:ext cx="57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.Рерих. Борис и Глеб. (Зачем мы живём?). 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176560" y="6453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CyrillicOld"/>
              </a:rPr>
              <a:t>СПАСО-ПРЕОБРАЖЕНСКИЙ СОБОР. РЫ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6194520"/>
            <a:ext cx="74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7"/>
                </a:solidFill>
                <a:latin typeface="CyrillicOld"/>
              </a:rPr>
              <a:t>ЦЕКРОВЬ КАЗАНСКОЙ ИКОНЫ БОЖЬЕЙ  МАТЕРИ. РЫ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87480" y="6442200"/>
            <a:ext cx="725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6760" y="6453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7"/>
                </a:solidFill>
                <a:latin typeface="CyrillicOld"/>
              </a:rPr>
              <a:t>ЦЕРКОВЬ В ЧЕСТЬ ВЕЛИКОМУЧЕНИКА ГЕОРГИЯ ПОБЕДОНОС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47840" y="6381720"/>
            <a:ext cx="51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7"/>
                </a:solidFill>
                <a:latin typeface="CyrillicOld"/>
              </a:rPr>
              <a:t>            </a:t>
            </a:r>
            <a:r>
              <a:rPr b="0" lang="en-US" sz="1800" spc="-1" strike="noStrike">
                <a:solidFill>
                  <a:srgbClr val="fffff7"/>
                </a:solidFill>
                <a:latin typeface="CyrillicOld"/>
              </a:rPr>
              <a:t>ВОЗНЕСЕНСКИЙ ХРАМ. РЫ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63388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7"/>
                </a:solidFill>
                <a:latin typeface="CyrillicOld"/>
              </a:rPr>
              <a:t>ХРАМ СРЕТЕНЬЯ ГОСПОДНЯ. РЫ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50600" y="6338880"/>
            <a:ext cx="599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7"/>
                </a:solidFill>
                <a:latin typeface="CyrillicOld"/>
              </a:rPr>
              <a:t>ХРАМ СВЯТИТЕЛЯ ТИХОНА ЗАДОНСКОГО. РЫ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979640" y="6381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Cyrillic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04080" y="6410160"/>
            <a:ext cx="69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7"/>
                </a:solidFill>
                <a:latin typeface="CyrillicOld"/>
              </a:rPr>
              <a:t>ЦЕРКОВЬ ИВЕРСКОЙ ИКОНЫ БОЖЬЕЙ МАТЕРИ. РЫ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15:01:21Z</dcterms:created>
  <dc:creator>1</dc:creator>
  <dc:description/>
  <dc:language>en-US</dc:language>
  <cp:lastModifiedBy>1</cp:lastModifiedBy>
  <dcterms:modified xsi:type="dcterms:W3CDTF">2015-01-19T16:10:21Z</dcterms:modified>
  <cp:revision>17</cp:revision>
  <dc:subject/>
  <dc:title>Слайд 1</dc:title>
</cp:coreProperties>
</file>